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843A-857C-4C11-AE53-A75347B52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7343-A6C4-461E-A964-AB12FA05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E68E-E3A4-4AEA-8CCB-EC8C310AC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AA33-943D-43FF-BEFB-ED4FD24CE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5658-6914-4091-A2B3-DD9F6565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C831-64F9-49A9-992C-B72BDDC4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3E87-4E8C-4042-A0E9-05F0B649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EEE1-A39B-4C2F-8C70-89E68B84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73F6-E8AB-4753-9341-64DAD9FF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7884-B654-46EA-A94D-35D71CA9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37D0-87AF-450A-887B-BFF81131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966A-1EDE-4178-A3E4-B61B1C02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98B8-3280-451A-8B16-AE58476C1139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0360" y="333000"/>
            <a:ext cx="37432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rebuchet MS"/>
              </a:rPr>
              <a:t>El AD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Imagen 4" descr="http://www.maph49.galeon.com/adn/deoxchem.gif"/>
          <p:cNvPicPr/>
          <p:nvPr/>
        </p:nvPicPr>
        <p:blipFill>
          <a:blip r:embed="rId1"/>
          <a:stretch/>
        </p:blipFill>
        <p:spPr>
          <a:xfrm>
            <a:off x="468360" y="981000"/>
            <a:ext cx="2398680" cy="1800360"/>
          </a:xfrm>
          <a:prstGeom prst="rect">
            <a:avLst/>
          </a:prstGeom>
          <a:ln w="0">
            <a:noFill/>
          </a:ln>
        </p:spPr>
      </p:pic>
      <p:pic>
        <p:nvPicPr>
          <p:cNvPr id="43" name="Imagen 1" descr="estructura de los nucleótidos"/>
          <p:cNvPicPr/>
          <p:nvPr/>
        </p:nvPicPr>
        <p:blipFill>
          <a:blip r:embed="rId2"/>
          <a:srcRect l="7824" t="57611" r="17500" b="0"/>
          <a:stretch/>
        </p:blipFill>
        <p:spPr>
          <a:xfrm>
            <a:off x="0" y="5273640"/>
            <a:ext cx="4464000" cy="1584360"/>
          </a:xfrm>
          <a:prstGeom prst="rect">
            <a:avLst/>
          </a:prstGeom>
          <a:ln w="0">
            <a:noFill/>
          </a:ln>
        </p:spPr>
      </p:pic>
      <p:pic>
        <p:nvPicPr>
          <p:cNvPr id="44" name="Imagen 13" descr=""/>
          <p:cNvPicPr/>
          <p:nvPr/>
        </p:nvPicPr>
        <p:blipFill>
          <a:blip r:embed="rId3"/>
          <a:stretch/>
        </p:blipFill>
        <p:spPr>
          <a:xfrm>
            <a:off x="3503520" y="1300320"/>
            <a:ext cx="517392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Monografias.com"/>
          <p:cNvPicPr/>
          <p:nvPr/>
        </p:nvPicPr>
        <p:blipFill>
          <a:blip r:embed="rId1"/>
          <a:stretch/>
        </p:blipFill>
        <p:spPr>
          <a:xfrm>
            <a:off x="1258920" y="836640"/>
            <a:ext cx="597996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394680" cy="38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agen 13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4622760" cy="3961080"/>
          </a:xfrm>
          <a:prstGeom prst="rect">
            <a:avLst/>
          </a:prstGeom>
          <a:ln w="0">
            <a:noFill/>
          </a:ln>
        </p:spPr>
      </p:pic>
      <p:sp>
        <p:nvSpPr>
          <p:cNvPr id="46" name="Cuadro de texto 2"/>
          <p:cNvSpPr/>
          <p:nvPr/>
        </p:nvSpPr>
        <p:spPr>
          <a:xfrm>
            <a:off x="5796000" y="1916280"/>
            <a:ext cx="2406600" cy="165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rebuchet MS"/>
              </a:rPr>
              <a:t>LOS CUATRO NUCLEÓTIDOS DEL ADN, CONSTANDO CADA UNO DE UNA BASE NITROGENADA</a:t>
            </a: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rebuchet MS"/>
              </a:rPr>
              <a:t>DIFER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n 14" descr=""/>
          <p:cNvPicPr/>
          <p:nvPr/>
        </p:nvPicPr>
        <p:blipFill>
          <a:blip r:embed="rId1"/>
          <a:stretch/>
        </p:blipFill>
        <p:spPr>
          <a:xfrm>
            <a:off x="34920" y="549360"/>
            <a:ext cx="2043000" cy="5040360"/>
          </a:xfrm>
          <a:prstGeom prst="rect">
            <a:avLst/>
          </a:prstGeom>
          <a:ln w="0">
            <a:noFill/>
          </a:ln>
        </p:spPr>
      </p:pic>
      <p:pic>
        <p:nvPicPr>
          <p:cNvPr id="48" name="Imagen 16" descr=""/>
          <p:cNvPicPr/>
          <p:nvPr/>
        </p:nvPicPr>
        <p:blipFill>
          <a:blip r:embed="rId2"/>
          <a:stretch/>
        </p:blipFill>
        <p:spPr>
          <a:xfrm>
            <a:off x="2050920" y="1484280"/>
            <a:ext cx="3392640" cy="3960720"/>
          </a:xfrm>
          <a:prstGeom prst="rect">
            <a:avLst/>
          </a:prstGeom>
          <a:ln w="0">
            <a:noFill/>
          </a:ln>
        </p:spPr>
      </p:pic>
      <p:pic>
        <p:nvPicPr>
          <p:cNvPr id="49" name="Imagen 18" descr=""/>
          <p:cNvPicPr/>
          <p:nvPr/>
        </p:nvPicPr>
        <p:blipFill>
          <a:blip r:embed="rId3"/>
          <a:srcRect l="0" t="0" r="0" b="9849"/>
          <a:stretch/>
        </p:blipFill>
        <p:spPr>
          <a:xfrm>
            <a:off x="7097760" y="961920"/>
            <a:ext cx="2050920" cy="4214880"/>
          </a:xfrm>
          <a:prstGeom prst="rect">
            <a:avLst/>
          </a:prstGeom>
          <a:ln w="0">
            <a:noFill/>
          </a:ln>
        </p:spPr>
      </p:pic>
      <p:pic>
        <p:nvPicPr>
          <p:cNvPr id="50" name="Imagen 14" descr=""/>
          <p:cNvPicPr/>
          <p:nvPr/>
        </p:nvPicPr>
        <p:blipFill>
          <a:blip r:embed="rId4"/>
          <a:stretch/>
        </p:blipFill>
        <p:spPr>
          <a:xfrm>
            <a:off x="5292720" y="730080"/>
            <a:ext cx="207000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187280" y="2349360"/>
          <a:ext cx="6912000" cy="1465560"/>
        </p:xfrm>
        <a:graphic>
          <a:graphicData uri="http://schemas.openxmlformats.org/drawingml/2006/table">
            <a:tbl>
              <a:tblPr/>
              <a:tblGrid>
                <a:gridCol w="363600"/>
                <a:gridCol w="363600"/>
                <a:gridCol w="363600"/>
                <a:gridCol w="363600"/>
                <a:gridCol w="363600"/>
                <a:gridCol w="365040"/>
                <a:gridCol w="363600"/>
                <a:gridCol w="363240"/>
                <a:gridCol w="363600"/>
                <a:gridCol w="363600"/>
                <a:gridCol w="365040"/>
                <a:gridCol w="363600"/>
                <a:gridCol w="363600"/>
                <a:gridCol w="363600"/>
                <a:gridCol w="363600"/>
                <a:gridCol w="363600"/>
                <a:gridCol w="365040"/>
                <a:gridCol w="363600"/>
                <a:gridCol w="363240"/>
              </a:tblGrid>
              <a:tr h="366840">
                <a:tc gridSpan="19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r ejemplo, si la secuencia de una hebra e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ff"/>
                          </a:solidFill>
                          <a:latin typeface="Calibri"/>
                          <a:ea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ff"/>
                          </a:solidFill>
                          <a:latin typeface="Calibri"/>
                          <a:ea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ff"/>
                          </a:solidFill>
                          <a:latin typeface="Calibri"/>
                          <a:ea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ff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ff"/>
                          </a:solidFill>
                          <a:latin typeface="Calibri"/>
                          <a:ea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ff"/>
                          </a:solidFill>
                          <a:latin typeface="Calibri"/>
                          <a:ea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ff"/>
                          </a:solidFill>
                          <a:latin typeface="Calibri"/>
                          <a:ea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ff"/>
                          </a:solidFill>
                          <a:latin typeface="Calibri"/>
                          <a:ea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ff"/>
                          </a:solidFill>
                          <a:latin typeface="Calibri"/>
                          <a:ea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ff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ff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ff"/>
                          </a:solidFill>
                          <a:latin typeface="Calibri"/>
                          <a:ea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ff"/>
                          </a:solidFill>
                          <a:latin typeface="Calibri"/>
                          <a:ea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ff"/>
                          </a:solidFill>
                          <a:latin typeface="Calibri"/>
                          <a:ea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ff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ff"/>
                          </a:solidFill>
                          <a:latin typeface="Calibri"/>
                          <a:ea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ff"/>
                          </a:solidFill>
                          <a:latin typeface="Calibri"/>
                          <a:ea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ff"/>
                          </a:solidFill>
                          <a:latin typeface="Calibri"/>
                          <a:ea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ff"/>
                          </a:solidFill>
                          <a:latin typeface="Calibri"/>
                          <a:ea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 gridSpan="19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ntonces la secuencia de la hebra complementaria tiene que ser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0000" y="274680"/>
            <a:ext cx="77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alibri"/>
              </a:rPr>
              <a:t>Mutaciones cromosómic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2195640" y="1484280"/>
            <a:ext cx="417672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148360" cy="48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484360" y="1916280"/>
            <a:ext cx="45752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328760" y="1233360"/>
            <a:ext cx="648504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050920" y="1052640"/>
            <a:ext cx="532620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22:50:24Z</dcterms:created>
  <dc:creator>Usuario</dc:creator>
  <dc:description/>
  <dc:language>en-US</dc:language>
  <cp:lastModifiedBy>Luffi</cp:lastModifiedBy>
  <dcterms:modified xsi:type="dcterms:W3CDTF">2015-01-20T18:17:06Z</dcterms:modified>
  <cp:revision>7</cp:revision>
  <dc:subject/>
  <dc:title>El ADN</dc:title>
</cp:coreProperties>
</file>